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EF5A-6623-493E-BE74-45DC6359A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80BB-89A3-4939-A85D-479DC1C92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04E3-8995-43AA-BA9F-4AFE762DE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6DFB-FD4E-42EC-B289-B1531DD7D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0B221-87D2-4376-9AE4-3EB6E8541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758A1-F36C-405D-9D4B-229A632DE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AF866-858F-4DFA-AD2E-3AA5607F3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E3498-5A7B-4AF5-8E74-3F153EAE0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C298F-FF97-48F4-A7A2-0E9307C0F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9A3D2-FB48-44F6-9431-8ECB30815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9611C-4757-4EB2-B33B-17AF447DC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3B14-4497-4DA4-9BE7-4CC9234C7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C410A-6D53-4DAB-A66E-140785F71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8D8B4-021B-44FC-8E36-A144E1575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6883F-F6B8-498D-AED1-473F91C38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0B810-35D6-4AA2-B72F-327BAA49A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F9BC5-000B-4C2C-9F95-2AE0AB1C3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91F4-E72E-439E-B7AB-1574D4E74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0FC7-13BC-4222-B824-AE18F3BB6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61A5-7DB9-41DA-A8BB-EEA387321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46DC-0965-4161-A93F-2FB9607CA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96D9-BCBD-499A-B70E-E2D18963A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E394-EEDA-47C7-A293-761FB0437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411C-C3E8-418A-83B3-755D03B36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0F9A8-B967-45D3-80E9-52C2A793A9B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74A0C-B5C9-4371-B503-BD3E5F685A1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hapter 8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Quot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ttribu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ways use SAID – nothing el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ok at the examples on p. 19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ive attributions at the end of the sentence.  Then, continue on with the quo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 are elated to have so many people out for powerlifting this year,” said Mr. Ed Whiting.  “It’s great to see so many students care about powerlifting.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Speech Stori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d the theme of the speec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ape recorder is helpfu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ts of quotes – let the speaker tell the s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ok online for a copy of the speaker’s manuscrip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s we begin…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 a journalist you must include quotes within your story, but those quotes must be accur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Direct Quotation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ctly what the speaker sa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ou need to convey the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ll us something we don’t already kno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 are 127 people in band this year,” said Dr. Duane Niles.  (Is this good or bad?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Exactnes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people speak, they are not always grammatically corre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hould you adjust the quot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Mr. V method works like this – however they say it is how it gets print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a sentence spoken is so strange, simply paraphrase what the speaker has sa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Use a tape recorder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y useful – ALWAYS take notes as wel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 be intimidating for the interview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horthand / speedwriting works well if you know ho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When not to quot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anity – sometimes it’s oka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or grammar – don’t make people seem illiterate but don’t fix their grammar eith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Paraphrasing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at for shortening lengthy quotes – get more to the poi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nly real hazard is that certain words must be adjus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’ to ‘they’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raphrase fac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on’t quote facts – it’s lazy and bor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ok at the examples on p. 191-19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void Repeti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n’t write a statement and then say it agai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y young journalists fall into this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Partial Quotation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r. V is not a fan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 work sometim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n’t carry this to ‘extremes’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3T20:48:42Z</dcterms:created>
  <dc:creator>jvanengen</dc:creator>
  <dc:description/>
  <dc:language>en-US</dc:language>
  <cp:lastModifiedBy>Administrator</cp:lastModifiedBy>
  <dcterms:modified xsi:type="dcterms:W3CDTF">2009-10-14T20:59:38Z</dcterms:modified>
  <cp:revision>4</cp:revision>
  <dc:subject/>
  <dc:title>Chapter 8</dc:title>
</cp:coreProperties>
</file>